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6EF1-4111-49BF-93FB-456303BD9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0EB4-C897-48CE-8FDD-8B4E3A460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ndianapublicmedia.org/amomentofscience/the-truth-about-phototropis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5779-16E5-4099-B1A5-8CD238426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FE70-99DE-48F9-9E29-4D7EE9010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covermagazine.com/2003/jan/botany#.Ua6dzBzsSj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 plant on right genetically engineered to produce more cytokin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64D2-6436-4DE4-B459-FDCD025B0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71B3-8D3B-4AE2-B974-C5D79A1A1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sci.ohio-state.edu/~plantbio/osu_pcmb/pcmb_lab_resources/pcmb101_activities/hormones/plnt_grth_hrmns_fruit_rip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EBB6-4616-4009-948C-8C74D91A8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vironmentplants.blogspot.c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418E-F0F1-4848-9E32-F7EEF56F7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163.16.28.248/bio/activelearner/36/ch36c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4C1D-8648-495B-9A4F-DAC776436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reparetobeamazed.blogspot.ca/2011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343E-D511-4B4D-9000-C8A2E4179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en.wikipedia.org/wiki/Thigmotrop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198A-843E-4BE5-B801-B04F419E3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B8BF-3768-49FB-9A62-7A1CAEED8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mblr.com/tagged/auxins?language=fr_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CCD5-0491-4D1C-87BA-1524DADD5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754F-75A1-48A5-86B6-7AB6A952E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5e.plantphys.net/article.php?ch=0&amp;id=3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CEEF-3091-4E6F-8FDF-8FB953C1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F9F-796D-4387-8BEA-26F3CB33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B5EF-1AAD-454C-89FA-1CD207EF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974-B1B8-47B0-943F-F10AC9D4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6CF-1E9B-4A51-9677-3A55348B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D4E9-DA11-42E4-8E0A-F443E389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65D8-FD7B-4CCA-8C61-2CAAE9A5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E5E-521A-4842-8520-B2E86624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1B9-0A79-44E7-846F-D730716D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FE2-C759-424E-B8D3-0FACC89E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666-04D6-467E-BE0E-0D92D325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F925-DA5F-4A7D-A1D2-4810CF5B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6E42-46CC-4B26-A2DF-296C7B46F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rol of Plant Growth &amp;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ki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growing tissues such as meristems, young leaves, growing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cell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ayed on mushrooms &amp; lettuce to prevent spo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bot_tobacco"/>
          <p:cNvPicPr/>
          <p:nvPr/>
        </p:nvPicPr>
        <p:blipFill>
          <a:blip r:embed="rId1"/>
          <a:stretch/>
        </p:blipFill>
        <p:spPr>
          <a:xfrm>
            <a:off x="3127320" y="609480"/>
            <a:ext cx="2887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yl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that is produced at various stages of plant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stress hormo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timulates fruit ripening, and many other developmental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ylene levels controlled so that fruit is ripe when sold at the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fruit_ripe"/>
          <p:cNvPicPr/>
          <p:nvPr/>
        </p:nvPicPr>
        <p:blipFill>
          <a:blip r:embed="rId1"/>
          <a:stretch/>
        </p:blipFill>
        <p:spPr>
          <a:xfrm>
            <a:off x="685800" y="844560"/>
            <a:ext cx="77724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cisic Acid (AB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its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s dormancy in seeds and leaf b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rise in response to temperature &amp; light changes (e.g., seasonal 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used on plants that are being sh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the growth of a plant in response to a 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2081938105_3cb639bea5"/>
          <p:cNvPicPr/>
          <p:nvPr/>
        </p:nvPicPr>
        <p:blipFill>
          <a:blip r:embed="rId1"/>
          <a:stretch/>
        </p:blipFill>
        <p:spPr>
          <a:xfrm>
            <a:off x="1893960" y="3124080"/>
            <a:ext cx="528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h36c2"/>
          <p:cNvPicPr/>
          <p:nvPr/>
        </p:nvPicPr>
        <p:blipFill>
          <a:blip r:embed="rId1"/>
          <a:stretch/>
        </p:blipFill>
        <p:spPr>
          <a:xfrm>
            <a:off x="2087640" y="1981080"/>
            <a:ext cx="496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0038195-Gravitropism_(Geotropism)-SPL"/>
          <p:cNvPicPr/>
          <p:nvPr/>
        </p:nvPicPr>
        <p:blipFill>
          <a:blip r:embed="rId1"/>
          <a:stretch/>
        </p:blipFill>
        <p:spPr>
          <a:xfrm>
            <a:off x="1606680" y="1981080"/>
            <a:ext cx="592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gmo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220px-Brunnichia_ovata_"/>
          <p:cNvPicPr/>
          <p:nvPr/>
        </p:nvPicPr>
        <p:blipFill>
          <a:blip r:embed="rId1"/>
          <a:stretch/>
        </p:blipFill>
        <p:spPr>
          <a:xfrm>
            <a:off x="2449440" y="1981080"/>
            <a:ext cx="424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Growth Reg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x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cell 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o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 sid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using phototrop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primarily in shoot apical meristem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in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tumblr_m3lh4aTFK61rvu0g4o1_250"/>
          <p:cNvPicPr/>
          <p:nvPr/>
        </p:nvPicPr>
        <p:blipFill>
          <a:blip r:embed="rId1"/>
          <a:stretch/>
        </p:blipFill>
        <p:spPr>
          <a:xfrm>
            <a:off x="4168800" y="2133720"/>
            <a:ext cx="459432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erell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s cell division &amp; elon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s role in flowering &amp; fruit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bberellin spray induces fruit production &amp; elongates fruit stems in gr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wt2002b_s"/>
          <p:cNvPicPr/>
          <p:nvPr/>
        </p:nvPicPr>
        <p:blipFill>
          <a:blip r:embed="rId1"/>
          <a:stretch/>
        </p:blipFill>
        <p:spPr>
          <a:xfrm>
            <a:off x="685800" y="749160"/>
            <a:ext cx="777240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1:39:58Z</dcterms:created>
  <dc:creator>rubina khan</dc:creator>
  <dc:description/>
  <dc:language>en-US</dc:language>
  <cp:lastModifiedBy>rubina khan</cp:lastModifiedBy>
  <dcterms:modified xsi:type="dcterms:W3CDTF">2016-11-30T13:32:24Z</dcterms:modified>
  <cp:revision>42</cp:revision>
  <dc:subject/>
  <dc:title>Plant Growth</dc:title>
</cp:coreProperties>
</file>